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2DF-BDD4-48C2-BC8A-60C8B940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026-42D7-4213-9CAB-D9B1C89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900-1E2A-4FBF-A13A-0B483A65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4AB-40BC-48C9-A4EE-F3C4E4C1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4FC-852F-4D03-84CB-CBBBAA5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3F4-2F91-4A3A-860B-A257F217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852-6DAC-46CA-AFA1-71A4F8A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AE7-E617-41D5-9BF5-3A8716A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A1A-1416-4F75-B888-ED2E2C4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9A7-D9EB-47C0-94A2-616E404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3C3-153E-47C9-A13F-A653164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529-32C1-407F-959A-25D1059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06A-B3E6-4381-9759-3245E23C9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Содержимое 3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 rot="1260600">
            <a:off x="5284800" y="90756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 rot="21001200">
            <a:off x="1304640" y="1733400"/>
            <a:ext cx="33004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571000">
            <a:off x="1282680" y="674640"/>
            <a:ext cx="3516480" cy="468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 rot="871200">
            <a:off x="5351400" y="1395360"/>
            <a:ext cx="329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 rot="996600">
            <a:off x="4749840" y="412560"/>
            <a:ext cx="3589200" cy="478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 rot="20831400">
            <a:off x="1189080" y="20016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927680" y="404640"/>
            <a:ext cx="3997080" cy="532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1403280" y="836640"/>
            <a:ext cx="3367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НЯЯ ПЕСЕНКА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овало лето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ень наступила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лях и в роща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о и уныло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тички улетели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 дни короче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ышка не видно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ны, темны н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68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6cec"/>
                </a:solidFill>
                <a:latin typeface="Book Antiqua"/>
              </a:rPr>
              <a:t>Для шаблона использованы </a:t>
            </a:r>
            <a:br>
              <a:rPr sz="4000"/>
            </a:br>
            <a:r>
              <a:rPr b="1" lang="ru-RU" sz="4000" spc="-1" strike="noStrike">
                <a:solidFill>
                  <a:srgbClr val="3e6cec"/>
                </a:solidFill>
                <a:latin typeface="Book Antiqua"/>
              </a:rPr>
              <a:t>интернет 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колокольчи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gsvg.ucoz.ru/_ld/2/s1251811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лист клена 1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savepic.ru/3145032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лист клена 2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104/novprospekt.7/0_46e36_75575be9_X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ученики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ttp://detsad-kitty.ru/shablon/33684-klipart-shkola-shkolniki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 и 4 слайдах рисунки колокольчика и листика подвижны, их можно переместить  или удал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колокольчик с листьями.jpg"/>
          <p:cNvPicPr/>
          <p:nvPr/>
        </p:nvPicPr>
        <p:blipFill>
          <a:blip r:embed="rId2"/>
          <a:stretch/>
        </p:blipFill>
        <p:spPr>
          <a:xfrm rot="20574000">
            <a:off x="218880" y="287280"/>
            <a:ext cx="1238040" cy="16812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11" descr="клен.png"/>
          <p:cNvPicPr/>
          <p:nvPr/>
        </p:nvPicPr>
        <p:blipFill>
          <a:blip r:embed="rId3"/>
          <a:stretch/>
        </p:blipFill>
        <p:spPr>
          <a:xfrm>
            <a:off x="7929720" y="5715000"/>
            <a:ext cx="8348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5040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Book Antiqua"/>
              </a:rPr>
              <a:t>Здравствуйте! </a:t>
            </a:r>
            <a:br>
              <a:rPr sz="3200"/>
            </a:br>
            <a:r>
              <a:rPr b="1" lang="ru-RU" sz="3200" spc="-1" strike="noStrike">
                <a:solidFill>
                  <a:srgbClr val="0066ff"/>
                </a:solidFill>
                <a:latin typeface="Book Antiqua"/>
              </a:rPr>
              <a:t>Рада Вас приветствовать </a:t>
            </a:r>
            <a:br>
              <a:rPr sz="3200"/>
            </a:br>
            <a:r>
              <a:rPr b="1" lang="ru-RU" sz="3200" spc="-1" strike="noStrike">
                <a:solidFill>
                  <a:srgbClr val="0066ff"/>
                </a:solidFill>
                <a:latin typeface="Book Antiqua"/>
              </a:rPr>
              <a:t>на моей первой</a:t>
            </a:r>
            <a:br>
              <a:rPr sz="3200"/>
            </a:br>
            <a:r>
              <a:rPr b="1" lang="ru-RU" sz="3200" spc="-1" strike="noStrike">
                <a:solidFill>
                  <a:srgbClr val="0066ff"/>
                </a:solidFill>
                <a:latin typeface="Book Antiqua"/>
              </a:rPr>
              <a:t> выставке фотографий</a:t>
            </a:r>
            <a:r>
              <a:rPr b="1" lang="ru-RU" sz="4400" spc="-1" strike="noStrike">
                <a:solidFill>
                  <a:srgbClr val="0066ff"/>
                </a:solidFill>
                <a:latin typeface="Book Antiqu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колокольчик с листьями.jpg"/>
          <p:cNvPicPr/>
          <p:nvPr/>
        </p:nvPicPr>
        <p:blipFill>
          <a:blip r:embed="rId2"/>
          <a:stretch/>
        </p:blipFill>
        <p:spPr>
          <a:xfrm rot="20574000">
            <a:off x="218880" y="287280"/>
            <a:ext cx="123804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318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6049800" cy="5197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мой любимец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763280" y="1267920"/>
            <a:ext cx="6193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4375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45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453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4608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 rot="1040400">
            <a:off x="5321160" y="861840"/>
            <a:ext cx="3251520" cy="433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 rot="20981400">
            <a:off x="1139400" y="1468080"/>
            <a:ext cx="34545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мои документы</cp:lastModifiedBy>
  <dcterms:modified xsi:type="dcterms:W3CDTF">2012-10-09T01:42:58Z</dcterms:modified>
  <cp:revision>10</cp:revision>
  <dc:subject/>
  <dc:title>Название презентации</dc:title>
</cp:coreProperties>
</file>